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5A95-B3E7-4A00-888B-0EBC8525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BBAA-1E80-4CB4-9F5C-80646E7D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268-4872-4337-8622-53DD17EC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1178-2F15-489C-A850-41DF2DB3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CCFA-85D3-4711-92DF-6B6C52DF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B131-101A-4A11-B599-006CAD28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CD01-CE4F-4A73-AE7B-9D36676E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1071-963B-417C-92FF-6CFB1068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461A-F758-4CDF-B6D9-E516D526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3616-1523-4EEE-9ACA-B8EACD40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E873-6A4B-4ADA-85CA-738DCA73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958-7CD3-48CD-8CF2-49A3C00A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F5BB-8D5D-4619-857D-381CF9DF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F527-C6F4-43B9-B7C8-9D56AD68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70B6-0EA8-4DD6-9044-C83F345A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995B-CCFD-4C69-8221-039448E3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CB4B-C196-4ED0-ACA4-4AFC007C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B015-F707-408F-AC2A-8DC4302D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AB9A-3A02-428E-AD22-01E5AA71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B156-CA44-4F3A-9E9E-115CD7F5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2C3-76E0-4E51-9607-D7120BA1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8060-AEAF-4F69-BF5E-AEA6EE20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6DA-EFF4-4646-BEC4-F3567928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0297-2E8C-4AE4-920F-11F49F03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2616-8DD9-4468-8AAA-9CD5A6D0A6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F853-A7CA-491F-A9C2-7C13466000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792920" cy="11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3" descr="chemistryx"/>
          <p:cNvPicPr/>
          <p:nvPr/>
        </p:nvPicPr>
        <p:blipFill>
          <a:blip r:embed="rId1"/>
          <a:stretch/>
        </p:blipFill>
        <p:spPr>
          <a:xfrm>
            <a:off x="2590920" y="2133720"/>
            <a:ext cx="380988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04920" y="1905120"/>
            <a:ext cx="670536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ate Conclu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You state wheth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prediction was confirmed or not and try to explain your resul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 a statement that accepts or rejects the hypothes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recommendations for further study and possible improvements to the proced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bigmouth"/>
          <p:cNvPicPr/>
          <p:nvPr/>
        </p:nvPicPr>
        <p:blipFill>
          <a:blip r:embed="rId2"/>
          <a:stretch/>
        </p:blipFill>
        <p:spPr>
          <a:xfrm>
            <a:off x="6915240" y="2666880"/>
            <a:ext cx="2076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“Science”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828800"/>
            <a:ext cx="8192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ience is a particular way of understanding the natural world. It allows us to connect the past with the present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a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’s there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it work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it come to be this way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38080" y="1828800"/>
            <a:ext cx="7804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cientific method is the only scientifi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y accepted to back up a theory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.  This is the method on which al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projects should be based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cientific Method is used by research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upport or disprove a theor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ience involves continuous observations, questions, multiple hypotheses, and more observ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6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85800" y="1752480"/>
            <a:ext cx="82422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Scientific Method involves 6 steps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Question/Purpo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Method/Experi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Result/Analyze the Da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hem01"/>
          <p:cNvPicPr/>
          <p:nvPr/>
        </p:nvPicPr>
        <p:blipFill>
          <a:blip r:embed="rId2"/>
          <a:stretch/>
        </p:blipFill>
        <p:spPr>
          <a:xfrm>
            <a:off x="1828800" y="5638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hem01"/>
          <p:cNvPicPr/>
          <p:nvPr/>
        </p:nvPicPr>
        <p:blipFill>
          <a:blip r:embed="rId3"/>
          <a:stretch/>
        </p:blipFill>
        <p:spPr>
          <a:xfrm>
            <a:off x="1828800" y="4952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hem01"/>
          <p:cNvPicPr/>
          <p:nvPr/>
        </p:nvPicPr>
        <p:blipFill>
          <a:blip r:embed="rId4"/>
          <a:stretch/>
        </p:blipFill>
        <p:spPr>
          <a:xfrm>
            <a:off x="1828800" y="4343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chem01"/>
          <p:cNvPicPr/>
          <p:nvPr/>
        </p:nvPicPr>
        <p:blipFill>
          <a:blip r:embed="rId5"/>
          <a:stretch/>
        </p:blipFill>
        <p:spPr>
          <a:xfrm>
            <a:off x="1828800" y="3657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hem01"/>
          <p:cNvPicPr/>
          <p:nvPr/>
        </p:nvPicPr>
        <p:blipFill>
          <a:blip r:embed="rId6"/>
          <a:stretch/>
        </p:blipFill>
        <p:spPr>
          <a:xfrm>
            <a:off x="1828800" y="2971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hem01"/>
          <p:cNvPicPr/>
          <p:nvPr/>
        </p:nvPicPr>
        <p:blipFill>
          <a:blip r:embed="rId7"/>
          <a:stretch/>
        </p:blipFill>
        <p:spPr>
          <a:xfrm>
            <a:off x="1828800" y="2362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80880" y="2286000"/>
            <a:ext cx="7467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ask a question about what you obser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a question or problem that can be solved through experiment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the problem or questi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MCONFUS"/>
          <p:cNvPicPr/>
          <p:nvPr/>
        </p:nvPicPr>
        <p:blipFill>
          <a:blip r:embed="rId2"/>
          <a:stretch/>
        </p:blipFill>
        <p:spPr>
          <a:xfrm>
            <a:off x="6934320" y="21337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0880" y="1828800"/>
            <a:ext cx="7543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You predict wha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think the answer to your problem or question might 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ypothesis must be testable. So evidence gathered can either support or disprove the hypothes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xample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If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Tahoma"/>
              </a:rPr>
              <a:t>soil temperatures</a:t>
            </a: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rise, then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Tahoma"/>
              </a:rPr>
              <a:t>plant growth</a:t>
            </a: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will incre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AMIDEA"/>
          <p:cNvPicPr/>
          <p:nvPr/>
        </p:nvPicPr>
        <p:blipFill>
          <a:blip r:embed="rId2"/>
          <a:stretch/>
        </p:blipFill>
        <p:spPr>
          <a:xfrm>
            <a:off x="7543800" y="2057400"/>
            <a:ext cx="1295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0880" y="1828800"/>
            <a:ext cx="8534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xperi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Develop and follow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Include a detailed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ateria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figure out a way to test whether the hypothesis is correct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utcome must be measurable (quantifiabl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 and analyze dat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AMPROBLE"/>
          <p:cNvPicPr/>
          <p:nvPr/>
        </p:nvPicPr>
        <p:blipFill>
          <a:blip r:embed="rId2"/>
          <a:stretch/>
        </p:blipFill>
        <p:spPr>
          <a:xfrm>
            <a:off x="6400800" y="3967200"/>
            <a:ext cx="248436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ctors to consider for Experi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304920" y="2043000"/>
            <a:ext cx="883908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ntrolled experiment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periment in which only one variable is manipul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Variable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actor that can be changed. (Weight, Length, Number of …,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dependent vs. Dependent variabl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variable that is changed to test a hypothesis is the independ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variable changed in response to the change in the independent variable is known as the dependent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28600" y="1981080"/>
            <a:ext cx="7620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llect and Analyze Results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acts, figures and other evidence gathered through observ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the procedure if nee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rm the results by retes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 tables, graphs, and photograph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AMDISAST"/>
          <p:cNvPicPr/>
          <p:nvPr/>
        </p:nvPicPr>
        <p:blipFill>
          <a:blip r:embed="rId2"/>
          <a:stretch/>
        </p:blipFill>
        <p:spPr>
          <a:xfrm>
            <a:off x="5807160" y="2819520"/>
            <a:ext cx="30988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0:42:23Z</dcterms:created>
  <dc:creator>SSC</dc:creator>
  <dc:description/>
  <dc:language>en-US</dc:language>
  <cp:lastModifiedBy>jcameron</cp:lastModifiedBy>
  <dcterms:modified xsi:type="dcterms:W3CDTF">2012-09-25T20:35:10Z</dcterms:modified>
  <cp:revision>22</cp:revision>
  <dc:subject/>
  <dc:title>The Scientific Method</dc:title>
</cp:coreProperties>
</file>